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901-5D64-4ADD-A657-0BC2BD1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312-30D9-4711-BFD6-D74F791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C92-DAFD-4257-A17C-439A8000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CD0-620D-4A6E-9B15-6001DF7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A12-1209-4E36-9D1A-44F19C19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DD9-636A-40D3-B784-6DDD158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4DC-6B29-432C-82FC-E920E20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08C-73FF-47CB-977C-01DB85C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0B4-0716-4FFD-845C-EDE93831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AE0-5A1C-4329-A9AF-29DEBF4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C58-B02C-4BE2-A003-6593603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70C-5F46-4872-9A65-4548F66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61575-BBAE-4270-BDF4-27FA689B4625}" type="slidenum">
              <a:rPr b="0" lang="tr-T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4800" spc="-1" strike="noStrike">
                <a:solidFill>
                  <a:srgbClr val="99284c"/>
                </a:solidFill>
                <a:latin typeface="Arial"/>
                <a:ea typeface="Lucida Sans Unicode"/>
              </a:rPr>
              <a:t>ENGLISH  LESSON 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6720" y="3708360"/>
            <a:ext cx="84596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Name Surname: Necdet GÜLS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Number: 239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Class: 8/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Ali drives car carefull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33640" y="2519280"/>
            <a:ext cx="7507080" cy="418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Sena is working h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65160" y="3038400"/>
            <a:ext cx="8394840" cy="380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Past Continuous Tens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160360"/>
            <a:ext cx="841824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99284c"/>
                </a:solidFill>
                <a:latin typeface="Arial"/>
              </a:rPr>
              <a:t>	</a:t>
            </a:r>
            <a:r>
              <a:rPr b="1" lang="tr-TR" sz="2400" spc="-1" strike="noStrike" u="sng">
                <a:solidFill>
                  <a:srgbClr val="47b8b8"/>
                </a:solidFill>
                <a:uFillTx/>
                <a:latin typeface="Arial"/>
              </a:rPr>
              <a:t>Past Continuous Tens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He                was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Sh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It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V</a:t>
            </a:r>
            <a:r>
              <a:rPr b="1" lang="tr-TR" sz="1600" spc="-1" strike="noStrike">
                <a:solidFill>
                  <a:srgbClr val="47b8b8"/>
                </a:solidFill>
                <a:latin typeface="Arial"/>
              </a:rPr>
              <a:t>ing</a:t>
            </a:r>
            <a:endParaRPr b="0" lang="en-US" sz="16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You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were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They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2400" spc="-1" strike="noStrike">
                <a:solidFill>
                  <a:srgbClr val="47b8b8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780000"/>
            <a:ext cx="9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9640" y="5400720"/>
            <a:ext cx="90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80000" y="4678200"/>
            <a:ext cx="1260360" cy="903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0000" y="3780000"/>
            <a:ext cx="126036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She was running in the garden yesterda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79640" y="3019320"/>
            <a:ext cx="7920000" cy="3640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They were doing their homewor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2519280"/>
            <a:ext cx="809964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He was taking the dog for a wal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7380000" cy="41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Past Simple and Past Continuous</a:t>
            </a:r>
            <a:br>
              <a:rPr sz="2400"/>
            </a:b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(When-While)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00000" y="1833480"/>
          <a:ext cx="7947000" cy="3027600"/>
        </p:xfrm>
        <a:graphic>
          <a:graphicData uri="http://schemas.openxmlformats.org/drawingml/2006/table">
            <a:tbl>
              <a:tblPr/>
              <a:tblGrid>
                <a:gridCol w="3986280"/>
                <a:gridCol w="3960720"/>
              </a:tblGrid>
              <a:tr h="7567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57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</a:t>
                      </a: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s driving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3deb3d"/>
                          </a:solidFill>
                          <a:latin typeface="Arial"/>
                        </a:rPr>
                        <a:t>when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denly a dear ran across the r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570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33cc66"/>
                          </a:solidFill>
                          <a:latin typeface="Arial"/>
                        </a:rPr>
                        <a:t>While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n </a:t>
                      </a:r>
                      <a:r>
                        <a:rPr b="1" lang="tr-TR" sz="1800" spc="-1" strike="noStrike">
                          <a:solidFill>
                            <a:srgbClr val="ff3333"/>
                          </a:solidFill>
                          <a:latin typeface="Arial"/>
                        </a:rPr>
                        <a:t>was listening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ghts went 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6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tr-TR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re sitting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tr-TR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hen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started to rain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EXAMPLE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While my mom was cooking, phone ra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2880000" cy="34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240" y="3240000"/>
            <a:ext cx="2805120" cy="33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ADJECTIVES / ADVERB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Regular adverb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2879640"/>
            <a:ext cx="6120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tr-TR" sz="1800" spc="-1" strike="noStrike">
                <a:solidFill>
                  <a:srgbClr val="aecf00"/>
                </a:solidFill>
                <a:latin typeface="Arial"/>
              </a:rPr>
              <a:t>Adjective     +     -ly                      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3060720"/>
            <a:ext cx="1079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3959280"/>
            <a:ext cx="66596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pp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og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0360" y="438948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0360" y="4859280"/>
            <a:ext cx="12607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00360" y="4606920"/>
            <a:ext cx="1260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tr-TR" sz="2400" spc="-1" strike="noStrike">
                <a:solidFill>
                  <a:srgbClr val="99284c"/>
                </a:solidFill>
                <a:latin typeface="Arial"/>
              </a:rPr>
              <a:t>ADJECTIVES / ADVERBS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2400" spc="-1" strike="noStrike">
                <a:solidFill>
                  <a:srgbClr val="333333"/>
                </a:solidFill>
                <a:latin typeface="Arial"/>
              </a:rPr>
              <a:t>Irregular Adverb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3240000"/>
            <a:ext cx="6300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arly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ate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0" y="46800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28840" y="44388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28840" y="443880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0" y="420840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62320" y="36813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3959280"/>
            <a:ext cx="14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56:05Z</dcterms:created>
  <dc:creator>ne </dc:creator>
  <dc:description/>
  <dc:language>en-US</dc:language>
  <cp:lastModifiedBy/>
  <cp:revision>1</cp:revision>
  <dc:subject/>
  <dc:title/>
</cp:coreProperties>
</file>